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7B9C-7CDF-4F25-80A1-DD419278F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66C0-AE08-4639-A39C-41F2E3C7D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09AF2-6F88-43BB-9E41-1581460CE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F566-1C8C-4AF1-B9CB-84CE7E2AB7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BC64-AF55-4784-94A7-7D1AF2D6DE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E7ECC-0DD6-43D2-97B4-C76DAF42E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FDF3-0529-41FC-AC47-AEBB120CE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0452-982F-4FC3-83E2-E372F2156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4797-0C1A-451F-8E00-995B561D7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2E72-9065-4ABE-B21E-B4A5B2E40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2500-9AE6-4C84-B079-C8C590B16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D36B-EF7B-4EAC-8F1E-3EC04C23D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3362-B587-416F-8A4E-D5B2F0FF66F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16468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5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792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opyright © 1999, Carnegie Mellon. All Rights Reserved.</a:t>
            </a:r>
            <a:endParaRPr b="1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Data Structures and Algorithms for Information Process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cture 13: Sorting 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Is there a way to sort without using binary comparisons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85800" y="1981080"/>
            <a:ext cx="784872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nary comparisons, K-way comparisons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si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 log n) result will still be true, beca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)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)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Useful speed-up heuristic: use your data as an index of an array.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4200" y="2980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onsider sorting letter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608040" y="2036880"/>
            <a:ext cx="83059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counts[26]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j = 0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nt i=0; i&lt;26; i++) counts=0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j=0; j&lt;clist.length; j++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[clist[j]-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++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=0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nt i=0; i&lt;26; i++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(count[i]-- &gt; 0) clist[j++]=i+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4200" y="2980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Sorting list of letter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298520" y="1289160"/>
            <a:ext cx="6543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s[26]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 = 0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nt i=0; i&lt;26; i++) counts=0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j=0; j&lt;clist.length; j++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[clist[j]-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]++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=0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nt i=0; i&lt;26; i++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count[i]-- &gt; 0) clist[j++]=i+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25560" y="563724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ime is O(26+clist.size()), i.e. </a:t>
            </a:r>
            <a:r>
              <a:rPr b="1" i="1" lang="en-US" sz="2400" spc="-1" strike="noStrike">
                <a:solidFill>
                  <a:srgbClr val="fa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096920" y="3927600"/>
            <a:ext cx="6566040" cy="157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list =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bcabbda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= {3,4,1,1,0,1,0, …, 0}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new  clist =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abbbbcd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Why does this beat n log n?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1400" y="17146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perati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[clist[j]]+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like a 26-way test; the outcome depends directly on the da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ati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cause it w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work if the data range grows from 26 t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ique can still be useful — can break up range into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cke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use mergesort on each buc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2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Radix Sor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42800" y="990720"/>
            <a:ext cx="8458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ay to exploit the data-driven idea for large data spaces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a: Sort the numbers by their </a:t>
            </a:r>
            <a:r>
              <a:rPr b="0" i="1" lang="en-US" sz="2400" spc="-1" strike="noStrike">
                <a:solidFill>
                  <a:srgbClr val="fa0000"/>
                </a:solidFill>
                <a:latin typeface="Verdana"/>
              </a:rPr>
              <a:t>lowest</a:t>
            </a: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git. Then sort them by the next lowest digit, being careful to break ties properly. Continue to highest digit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2500200" y="3241800"/>
          <a:ext cx="3962520" cy="318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3241800"/>
                    <a:ext cx="396252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6"/>
          <p:cNvSpPr/>
          <p:nvPr/>
        </p:nvSpPr>
        <p:spPr>
          <a:xfrm>
            <a:off x="3003480" y="3286080"/>
            <a:ext cx="152640" cy="2438280"/>
          </a:xfrm>
          <a:prstGeom prst="rect">
            <a:avLst/>
          </a:prstGeom>
          <a:noFill/>
          <a:ln w="1908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511440" y="3268800"/>
            <a:ext cx="152640" cy="2438280"/>
          </a:xfrm>
          <a:prstGeom prst="rect">
            <a:avLst/>
          </a:prstGeom>
          <a:noFill/>
          <a:ln w="1908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079880" y="3340080"/>
            <a:ext cx="152280" cy="2438280"/>
          </a:xfrm>
          <a:prstGeom prst="rect">
            <a:avLst/>
          </a:prstGeom>
          <a:noFill/>
          <a:ln w="1908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4637160" y="3295800"/>
            <a:ext cx="152280" cy="2438280"/>
          </a:xfrm>
          <a:prstGeom prst="rect">
            <a:avLst/>
          </a:prstGeom>
          <a:noFill/>
          <a:ln w="1908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Radix Sor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sort must be </a:t>
            </a:r>
            <a:r>
              <a:rPr b="1" i="1" lang="en-US" sz="2400" spc="-1" strike="noStrike">
                <a:solidFill>
                  <a:srgbClr val="fa0000"/>
                </a:solidFill>
                <a:latin typeface="Verdana"/>
              </a:rPr>
              <a:t>s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lative order of equal keys is preser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is way, the work done for earlier bits is no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o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73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Radix Sor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80920" y="1511280"/>
            <a:ext cx="84582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l Algorithm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ort items A[i] with value 0…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1 (= INT_MAX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a table of 256 buckets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For every A[i] put it in bucket A[i] mod 256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e all the items from the buckets 0,…, 255 in a FIF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ner, re-packing them into A.}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at using A[i]/256 mod 25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at using A[i]/25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od 25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at using A[i]/25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od 25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takes O(4*(256+A.length)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2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Times New Roman"/>
              </a:rPr>
              <a:t>Radix Sort using Counts</a:t>
            </a:r>
            <a:endParaRPr b="1" lang="en-US" sz="4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00160" y="1654200"/>
            <a:ext cx="859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RadixSort(int a[], int b[], int N) {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, j, pass, count[M]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pass=0; pass &lt; (w/m); pass++) {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j=0; j &lt; M; j++) count[j] = 0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=1; i &lt;= N; i++)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[a[i].bits(pass*m, m)]++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j=1; j &lt; M; j++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[j] = count[j-1] + count[j]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=N; i &gt;= 1; i--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[count[a[i].bits(pass*m,m)]--] = 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[i]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=1; i &lt;= N; i++) a[i] = b[i];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816120" y="1039680"/>
            <a:ext cx="724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Queues can be avoided by using counts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0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Radix Sort using Queue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227240" y="1027080"/>
            <a:ext cx="7916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st int BucketCount = 256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RadixSort(vector&lt;int&gt; &amp;A) {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ector&lt;queue&lt;int&gt; &gt; Table(BucketCount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asses = ceil(log(INT_MAX)/log(BucketCount)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ower = 1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nt p=0; p&lt;passes;p++) {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 i&lt;A.size(); i++) {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tem = A[i]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bucket = (item/power) % BucketCoun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ble[bucket].push(item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 =0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nt b=0; b&lt;BucketCount; b++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!Table[b].empty()) {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i++] = Table[b].front(); Table[b].pop()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wer *= BucketCount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0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Radix Sor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452600" y="1298520"/>
            <a:ext cx="7691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general it takes tim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( Passes*(NBuckets+A.length)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Passes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g(INT_MAX)/log(NBuckets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needs O(A.length) in extra space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Outline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61680" y="2298240"/>
            <a:ext cx="6675480" cy="24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3840" indent="-393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197000"/>
                <a:tab algn="l" pos="1314360"/>
                <a:tab algn="l" pos="1460520"/>
                <a:tab algn="l" pos="1606680"/>
                <a:tab algn="l" pos="1752480"/>
                <a:tab algn="l" pos="1898640"/>
                <a:tab algn="l" pos="2044800"/>
                <a:tab algn="l" pos="2190600"/>
                <a:tab algn="l" pos="2336760"/>
                <a:tab algn="l" pos="2482920"/>
                <a:tab algn="l" pos="2629080"/>
                <a:tab algn="l" pos="2774880"/>
                <a:tab algn="l" pos="2921040"/>
                <a:tab algn="l" pos="3067200"/>
                <a:tab algn="l" pos="3213000"/>
                <a:tab algn="l" pos="3359160"/>
                <a:tab algn="l" pos="3505320"/>
                <a:tab algn="l" pos="3651120"/>
                <a:tab algn="l" pos="3797280"/>
                <a:tab algn="l" pos="3943440"/>
                <a:tab algn="l" pos="4089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ef review from last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3840" indent="-393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197000"/>
                <a:tab algn="l" pos="1314360"/>
                <a:tab algn="l" pos="1460520"/>
                <a:tab algn="l" pos="1606680"/>
                <a:tab algn="l" pos="1752480"/>
                <a:tab algn="l" pos="1898640"/>
                <a:tab algn="l" pos="2044800"/>
                <a:tab algn="l" pos="2190600"/>
                <a:tab algn="l" pos="2336760"/>
                <a:tab algn="l" pos="2482920"/>
                <a:tab algn="l" pos="2629080"/>
                <a:tab algn="l" pos="2774880"/>
                <a:tab algn="l" pos="2921040"/>
                <a:tab algn="l" pos="3067200"/>
                <a:tab algn="l" pos="3213000"/>
                <a:tab algn="l" pos="3359160"/>
                <a:tab algn="l" pos="3505320"/>
                <a:tab algn="l" pos="3651120"/>
                <a:tab algn="l" pos="3797280"/>
                <a:tab algn="l" pos="3943440"/>
                <a:tab algn="l" pos="4089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dix sorting and index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3840" indent="-393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197000"/>
                <a:tab algn="l" pos="1314360"/>
                <a:tab algn="l" pos="1460520"/>
                <a:tab algn="l" pos="1606680"/>
                <a:tab algn="l" pos="1752480"/>
                <a:tab algn="l" pos="1898640"/>
                <a:tab algn="l" pos="2044800"/>
                <a:tab algn="l" pos="2190600"/>
                <a:tab algn="l" pos="2336760"/>
                <a:tab algn="l" pos="2482920"/>
                <a:tab algn="l" pos="2629080"/>
                <a:tab algn="l" pos="2774880"/>
                <a:tab algn="l" pos="2921040"/>
                <a:tab algn="l" pos="3067200"/>
                <a:tab algn="l" pos="3213000"/>
                <a:tab algn="l" pos="3359160"/>
                <a:tab algn="l" pos="3505320"/>
                <a:tab algn="l" pos="3651120"/>
                <a:tab algn="l" pos="3797280"/>
                <a:tab algn="l" pos="3943440"/>
                <a:tab algn="l" pos="4089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ursive sorting algorith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3840" indent="-393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197000"/>
                <a:tab algn="l" pos="1314360"/>
                <a:tab algn="l" pos="1460520"/>
                <a:tab algn="l" pos="1606680"/>
                <a:tab algn="l" pos="1752480"/>
                <a:tab algn="l" pos="1898640"/>
                <a:tab algn="l" pos="2044800"/>
                <a:tab algn="l" pos="2190600"/>
                <a:tab algn="l" pos="2336760"/>
                <a:tab algn="l" pos="2482920"/>
                <a:tab algn="l" pos="2629080"/>
                <a:tab algn="l" pos="2774880"/>
                <a:tab algn="l" pos="2921040"/>
                <a:tab algn="l" pos="3067200"/>
                <a:tab algn="l" pos="3213000"/>
                <a:tab algn="l" pos="3359160"/>
                <a:tab algn="l" pos="3505320"/>
                <a:tab algn="l" pos="3651120"/>
                <a:tab algn="l" pos="3797280"/>
                <a:tab algn="l" pos="3943440"/>
                <a:tab algn="l" pos="4089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icks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Idea of Merge Sor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vide elements to be sorted into two groups of equal si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rt each hal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rge the results using a simultaneous pass through e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suedocode for Merge Sor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542600"/>
            <a:ext cx="6912000" cy="45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ergesort(int data[], int first, int n)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n &gt; 1)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1 = n/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2 = n - n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sort(data, first, n1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sort(data, first+n1, n2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(data, first, n1, n2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Mergesort in Ac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124" name="Picture 4" descr="merge1a"/>
          <p:cNvPicPr/>
          <p:nvPr/>
        </p:nvPicPr>
        <p:blipFill>
          <a:blip r:embed="rId1"/>
          <a:stretch/>
        </p:blipFill>
        <p:spPr>
          <a:xfrm>
            <a:off x="1359000" y="1550880"/>
            <a:ext cx="646272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Mergesort in Ac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127" name="Picture 4" descr="merge1b"/>
          <p:cNvPicPr/>
          <p:nvPr/>
        </p:nvPicPr>
        <p:blipFill>
          <a:blip r:embed="rId1"/>
          <a:stretch/>
        </p:blipFill>
        <p:spPr>
          <a:xfrm>
            <a:off x="1720800" y="1741320"/>
            <a:ext cx="58784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The Merge Opera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130" name="Group 55"/>
          <p:cNvGrpSpPr/>
          <p:nvPr/>
        </p:nvGrpSpPr>
        <p:grpSpPr>
          <a:xfrm>
            <a:off x="1370160" y="2403360"/>
            <a:ext cx="6700680" cy="612720"/>
            <a:chOff x="1370160" y="2403360"/>
            <a:chExt cx="6700680" cy="612720"/>
          </a:xfrm>
        </p:grpSpPr>
        <p:sp>
          <p:nvSpPr>
            <p:cNvPr id="131" name="Rectangle 4"/>
            <p:cNvSpPr/>
            <p:nvPr/>
          </p:nvSpPr>
          <p:spPr>
            <a:xfrm>
              <a:off x="1370160" y="240336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>
              <a:off x="2085840" y="240336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3" name="Rectangle 9"/>
            <p:cNvSpPr/>
            <p:nvPr/>
          </p:nvSpPr>
          <p:spPr>
            <a:xfrm>
              <a:off x="2789280" y="240336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3503520" y="240336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5" name="Rectangle 15"/>
            <p:cNvSpPr/>
            <p:nvPr/>
          </p:nvSpPr>
          <p:spPr>
            <a:xfrm>
              <a:off x="5187960" y="2425680"/>
              <a:ext cx="720720" cy="590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6" name="Rectangle 16"/>
            <p:cNvSpPr/>
            <p:nvPr/>
          </p:nvSpPr>
          <p:spPr>
            <a:xfrm>
              <a:off x="5916600" y="2425680"/>
              <a:ext cx="720720" cy="590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7" name="Rectangle 17"/>
            <p:cNvSpPr/>
            <p:nvPr/>
          </p:nvSpPr>
          <p:spPr>
            <a:xfrm>
              <a:off x="6621480" y="2425680"/>
              <a:ext cx="720720" cy="590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8" name="Rectangle 18"/>
            <p:cNvSpPr/>
            <p:nvPr/>
          </p:nvSpPr>
          <p:spPr>
            <a:xfrm>
              <a:off x="7350120" y="2425680"/>
              <a:ext cx="720720" cy="590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39" name="Group 56"/>
          <p:cNvGrpSpPr/>
          <p:nvPr/>
        </p:nvGrpSpPr>
        <p:grpSpPr>
          <a:xfrm>
            <a:off x="1494000" y="4468680"/>
            <a:ext cx="5805360" cy="590760"/>
            <a:chOff x="1494000" y="4468680"/>
            <a:chExt cx="5805360" cy="590760"/>
          </a:xfrm>
        </p:grpSpPr>
        <p:sp>
          <p:nvSpPr>
            <p:cNvPr id="140" name="Rectangle 19"/>
            <p:cNvSpPr/>
            <p:nvPr/>
          </p:nvSpPr>
          <p:spPr>
            <a:xfrm>
              <a:off x="1494000" y="446868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>
              <a:off x="2206800" y="446868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2" name="Rectangle 21"/>
            <p:cNvSpPr/>
            <p:nvPr/>
          </p:nvSpPr>
          <p:spPr>
            <a:xfrm>
              <a:off x="2943360" y="446868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3" name="Rectangle 22"/>
            <p:cNvSpPr/>
            <p:nvPr/>
          </p:nvSpPr>
          <p:spPr>
            <a:xfrm>
              <a:off x="3670200" y="446868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4" name="Rectangle 23"/>
            <p:cNvSpPr/>
            <p:nvPr/>
          </p:nvSpPr>
          <p:spPr>
            <a:xfrm>
              <a:off x="4403880" y="446868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5" name="Rectangle 24"/>
            <p:cNvSpPr/>
            <p:nvPr/>
          </p:nvSpPr>
          <p:spPr>
            <a:xfrm>
              <a:off x="5116680" y="446868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6" name="Rectangle 25"/>
            <p:cNvSpPr/>
            <p:nvPr/>
          </p:nvSpPr>
          <p:spPr>
            <a:xfrm>
              <a:off x="5850000" y="446868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7" name="Rectangle 26"/>
            <p:cNvSpPr/>
            <p:nvPr/>
          </p:nvSpPr>
          <p:spPr>
            <a:xfrm>
              <a:off x="6578640" y="4468680"/>
              <a:ext cx="720720" cy="590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48" name="Rectangle 39"/>
          <p:cNvSpPr/>
          <p:nvPr/>
        </p:nvSpPr>
        <p:spPr>
          <a:xfrm>
            <a:off x="2836800" y="3543480"/>
            <a:ext cx="417600" cy="3762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Line 46"/>
          <p:cNvSpPr/>
          <p:nvPr/>
        </p:nvSpPr>
        <p:spPr>
          <a:xfrm flipV="1">
            <a:off x="1839960" y="51292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Line 57"/>
          <p:cNvSpPr/>
          <p:nvPr/>
        </p:nvSpPr>
        <p:spPr>
          <a:xfrm flipV="1">
            <a:off x="5514840" y="310320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Line 58"/>
          <p:cNvSpPr/>
          <p:nvPr/>
        </p:nvSpPr>
        <p:spPr>
          <a:xfrm flipV="1">
            <a:off x="1741320" y="310320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Mergesort Performance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orst-case, average-case, and best-case running time for mergesort are all O(n log 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sic ide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dividing in half we do O(log n) mer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merge requires linear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eneral Recursive Strategy to Sort List L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L has zero or one element, w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 finish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w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vide L into two smaller lists L1, L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ursively sort each of the smaller 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bine L1 and L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 far have considered merge combination metho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 w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 conside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ini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two 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Quicksor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7640" y="1542960"/>
            <a:ext cx="3066840" cy="419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devised by the computer scienti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.A.R. Ho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of the most effective algorithms in practice, though quadratic in the worst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4" descr="hoare"/>
          <p:cNvPicPr/>
          <p:nvPr/>
        </p:nvPicPr>
        <p:blipFill>
          <a:blip r:embed="rId1"/>
          <a:stretch/>
        </p:blipFill>
        <p:spPr>
          <a:xfrm>
            <a:off x="4773600" y="1771560"/>
            <a:ext cx="268596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Quicksor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two pha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tion phase, to break the array into two pie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rt phase, to recursively sort hal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of the work goes into the partition ph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partitioning, the values in the left half are less than the values in the right hal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The Pivo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invarian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8" name="Group 13"/>
          <p:cNvGrpSpPr/>
          <p:nvPr/>
        </p:nvGrpSpPr>
        <p:grpSpPr>
          <a:xfrm>
            <a:off x="2033640" y="2944800"/>
            <a:ext cx="5338800" cy="2028960"/>
            <a:chOff x="2033640" y="2944800"/>
            <a:chExt cx="5338800" cy="2028960"/>
          </a:xfrm>
        </p:grpSpPr>
        <p:sp>
          <p:nvSpPr>
            <p:cNvPr id="169" name="Rectangle 4"/>
            <p:cNvSpPr/>
            <p:nvPr/>
          </p:nvSpPr>
          <p:spPr>
            <a:xfrm>
              <a:off x="2033640" y="2973240"/>
              <a:ext cx="2265120" cy="663480"/>
            </a:xfrm>
            <a:prstGeom prst="rect">
              <a:avLst/>
            </a:prstGeom>
            <a:solidFill>
              <a:srgbClr val="99ff33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ath1"/>
                  <a:ea typeface="Math1"/>
                </a:rPr>
                <a:t>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0" name="Rectangle 5"/>
            <p:cNvSpPr/>
            <p:nvPr/>
          </p:nvSpPr>
          <p:spPr>
            <a:xfrm>
              <a:off x="4298760" y="2959200"/>
              <a:ext cx="765360" cy="677520"/>
            </a:xfrm>
            <a:prstGeom prst="rect">
              <a:avLst/>
            </a:prstGeom>
            <a:solidFill>
              <a:srgbClr val="99ff33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vo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5064120" y="2944800"/>
              <a:ext cx="2308320" cy="691920"/>
            </a:xfrm>
            <a:prstGeom prst="rect">
              <a:avLst/>
            </a:prstGeom>
            <a:solidFill>
              <a:srgbClr val="99ff33">
                <a:alpha val="50000"/>
              </a:srgbClr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ath1"/>
                  <a:ea typeface="Math1"/>
                </a:rPr>
                <a:t>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2" name="Line 11"/>
            <p:cNvSpPr/>
            <p:nvPr/>
          </p:nvSpPr>
          <p:spPr>
            <a:xfrm>
              <a:off x="4660920" y="3767040"/>
              <a:ext cx="0" cy="73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3851280" y="4606920"/>
              <a:ext cx="1693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ivot index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Sorting Demonstra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3520" y="213516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s://www.toptal.com/developers/sorting-algorithm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hoosing a Pivo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key question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we choose the pivot item?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affect performance dramat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ly, we should choose to pivot around the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 once thought that finding the median costs as much as sorting...But the median can be found in O(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terministic algorithm might simply choose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lement as the pivo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non-deterministic algorithm might choose the pivot element randomly. The worst case does not chan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artition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179" name="Group 20"/>
          <p:cNvGrpSpPr/>
          <p:nvPr/>
        </p:nvGrpSpPr>
        <p:grpSpPr>
          <a:xfrm>
            <a:off x="7068960" y="1765440"/>
            <a:ext cx="1409760" cy="606240"/>
            <a:chOff x="7068960" y="1765440"/>
            <a:chExt cx="1409760" cy="606240"/>
          </a:xfrm>
        </p:grpSpPr>
        <p:sp>
          <p:nvSpPr>
            <p:cNvPr id="180" name="Rectangle 15"/>
            <p:cNvSpPr/>
            <p:nvPr/>
          </p:nvSpPr>
          <p:spPr>
            <a:xfrm>
              <a:off x="7068960" y="1765440"/>
              <a:ext cx="706680" cy="606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9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81" name="Rectangle 17"/>
            <p:cNvSpPr/>
            <p:nvPr/>
          </p:nvSpPr>
          <p:spPr>
            <a:xfrm>
              <a:off x="7772400" y="1765440"/>
              <a:ext cx="706320" cy="606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7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82" name="Group 21"/>
          <p:cNvGrpSpPr/>
          <p:nvPr/>
        </p:nvGrpSpPr>
        <p:grpSpPr>
          <a:xfrm>
            <a:off x="5662440" y="1765440"/>
            <a:ext cx="1409760" cy="606240"/>
            <a:chOff x="5662440" y="1765440"/>
            <a:chExt cx="1409760" cy="606240"/>
          </a:xfrm>
        </p:grpSpPr>
        <p:sp>
          <p:nvSpPr>
            <p:cNvPr id="183" name="Rectangle 22"/>
            <p:cNvSpPr/>
            <p:nvPr/>
          </p:nvSpPr>
          <p:spPr>
            <a:xfrm>
              <a:off x="5662440" y="1765440"/>
              <a:ext cx="706680" cy="606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3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84" name="Rectangle 23"/>
            <p:cNvSpPr/>
            <p:nvPr/>
          </p:nvSpPr>
          <p:spPr>
            <a:xfrm>
              <a:off x="6365880" y="1765440"/>
              <a:ext cx="706320" cy="606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0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85" name="Group 24"/>
          <p:cNvGrpSpPr/>
          <p:nvPr/>
        </p:nvGrpSpPr>
        <p:grpSpPr>
          <a:xfrm>
            <a:off x="4248000" y="1765440"/>
            <a:ext cx="1409760" cy="606240"/>
            <a:chOff x="4248000" y="1765440"/>
            <a:chExt cx="1409760" cy="606240"/>
          </a:xfrm>
        </p:grpSpPr>
        <p:sp>
          <p:nvSpPr>
            <p:cNvPr id="186" name="Rectangle 25"/>
            <p:cNvSpPr/>
            <p:nvPr/>
          </p:nvSpPr>
          <p:spPr>
            <a:xfrm>
              <a:off x="4248000" y="1765440"/>
              <a:ext cx="706680" cy="606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5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87" name="Rectangle 26"/>
            <p:cNvSpPr/>
            <p:nvPr/>
          </p:nvSpPr>
          <p:spPr>
            <a:xfrm>
              <a:off x="4951440" y="1765440"/>
              <a:ext cx="706320" cy="606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88" name="Group 27"/>
          <p:cNvGrpSpPr/>
          <p:nvPr/>
        </p:nvGrpSpPr>
        <p:grpSpPr>
          <a:xfrm>
            <a:off x="2827440" y="1765440"/>
            <a:ext cx="1409760" cy="606240"/>
            <a:chOff x="2827440" y="1765440"/>
            <a:chExt cx="1409760" cy="606240"/>
          </a:xfrm>
        </p:grpSpPr>
        <p:sp>
          <p:nvSpPr>
            <p:cNvPr id="189" name="Rectangle 28"/>
            <p:cNvSpPr/>
            <p:nvPr/>
          </p:nvSpPr>
          <p:spPr>
            <a:xfrm>
              <a:off x="2827440" y="1765440"/>
              <a:ext cx="706680" cy="606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8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90" name="Rectangle 29"/>
            <p:cNvSpPr/>
            <p:nvPr/>
          </p:nvSpPr>
          <p:spPr>
            <a:xfrm>
              <a:off x="3530880" y="1765440"/>
              <a:ext cx="706320" cy="606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91" name="Group 30"/>
          <p:cNvGrpSpPr/>
          <p:nvPr/>
        </p:nvGrpSpPr>
        <p:grpSpPr>
          <a:xfrm>
            <a:off x="1420920" y="1765440"/>
            <a:ext cx="1409760" cy="606240"/>
            <a:chOff x="1420920" y="1765440"/>
            <a:chExt cx="1409760" cy="606240"/>
          </a:xfrm>
        </p:grpSpPr>
        <p:sp>
          <p:nvSpPr>
            <p:cNvPr id="192" name="Rectangle 31"/>
            <p:cNvSpPr/>
            <p:nvPr/>
          </p:nvSpPr>
          <p:spPr>
            <a:xfrm>
              <a:off x="1420920" y="1765440"/>
              <a:ext cx="706680" cy="606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2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93" name="Rectangle 32"/>
            <p:cNvSpPr/>
            <p:nvPr/>
          </p:nvSpPr>
          <p:spPr>
            <a:xfrm>
              <a:off x="2124360" y="1765440"/>
              <a:ext cx="706320" cy="606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94" name="Rectangle 35"/>
          <p:cNvSpPr/>
          <p:nvPr/>
        </p:nvSpPr>
        <p:spPr>
          <a:xfrm>
            <a:off x="704880" y="1765440"/>
            <a:ext cx="706320" cy="606240"/>
          </a:xfrm>
          <a:prstGeom prst="rect">
            <a:avLst/>
          </a:prstGeom>
          <a:solidFill>
            <a:srgbClr val="fa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artition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7" name="Rectangle 38"/>
          <p:cNvSpPr/>
          <p:nvPr/>
        </p:nvSpPr>
        <p:spPr>
          <a:xfrm>
            <a:off x="7034040" y="1832040"/>
            <a:ext cx="706680" cy="606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Rectangle 39"/>
          <p:cNvSpPr/>
          <p:nvPr/>
        </p:nvSpPr>
        <p:spPr>
          <a:xfrm>
            <a:off x="7737480" y="1832040"/>
            <a:ext cx="706320" cy="606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Rectangle 41"/>
          <p:cNvSpPr/>
          <p:nvPr/>
        </p:nvSpPr>
        <p:spPr>
          <a:xfrm>
            <a:off x="5627520" y="1832040"/>
            <a:ext cx="706680" cy="606240"/>
          </a:xfrm>
          <a:prstGeom prst="rect">
            <a:avLst/>
          </a:prstGeom>
          <a:solidFill>
            <a:srgbClr val="0066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Rectangle 42"/>
          <p:cNvSpPr/>
          <p:nvPr/>
        </p:nvSpPr>
        <p:spPr>
          <a:xfrm>
            <a:off x="6330960" y="1832040"/>
            <a:ext cx="706320" cy="606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Rectangle 44"/>
          <p:cNvSpPr/>
          <p:nvPr/>
        </p:nvSpPr>
        <p:spPr>
          <a:xfrm>
            <a:off x="4213080" y="1832040"/>
            <a:ext cx="706680" cy="606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Rectangle 45"/>
          <p:cNvSpPr/>
          <p:nvPr/>
        </p:nvSpPr>
        <p:spPr>
          <a:xfrm>
            <a:off x="4916520" y="1832040"/>
            <a:ext cx="706320" cy="606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Rectangle 47"/>
          <p:cNvSpPr/>
          <p:nvPr/>
        </p:nvSpPr>
        <p:spPr>
          <a:xfrm>
            <a:off x="2792520" y="1832040"/>
            <a:ext cx="706320" cy="60624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Rectangle 48"/>
          <p:cNvSpPr/>
          <p:nvPr/>
        </p:nvSpPr>
        <p:spPr>
          <a:xfrm>
            <a:off x="3495600" y="1832040"/>
            <a:ext cx="706680" cy="606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Rectangle 50"/>
          <p:cNvSpPr/>
          <p:nvPr/>
        </p:nvSpPr>
        <p:spPr>
          <a:xfrm>
            <a:off x="1386000" y="1832040"/>
            <a:ext cx="706320" cy="606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Rectangle 51"/>
          <p:cNvSpPr/>
          <p:nvPr/>
        </p:nvSpPr>
        <p:spPr>
          <a:xfrm>
            <a:off x="2089080" y="1832040"/>
            <a:ext cx="706680" cy="606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Rectangle 52"/>
          <p:cNvSpPr/>
          <p:nvPr/>
        </p:nvSpPr>
        <p:spPr>
          <a:xfrm>
            <a:off x="669960" y="1832040"/>
            <a:ext cx="706320" cy="606240"/>
          </a:xfrm>
          <a:prstGeom prst="rect">
            <a:avLst/>
          </a:prstGeom>
          <a:solidFill>
            <a:srgbClr val="fa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artition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0" name="Rectangle 31"/>
          <p:cNvSpPr/>
          <p:nvPr/>
        </p:nvSpPr>
        <p:spPr>
          <a:xfrm>
            <a:off x="7070760" y="169704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7773840" y="169704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Rectangle 33"/>
          <p:cNvSpPr/>
          <p:nvPr/>
        </p:nvSpPr>
        <p:spPr>
          <a:xfrm>
            <a:off x="5664240" y="1697040"/>
            <a:ext cx="706320" cy="606600"/>
          </a:xfrm>
          <a:prstGeom prst="rect">
            <a:avLst/>
          </a:prstGeom>
          <a:solidFill>
            <a:srgbClr val="0066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Rectangle 34"/>
          <p:cNvSpPr/>
          <p:nvPr/>
        </p:nvSpPr>
        <p:spPr>
          <a:xfrm>
            <a:off x="6367320" y="169704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Rectangle 35"/>
          <p:cNvSpPr/>
          <p:nvPr/>
        </p:nvSpPr>
        <p:spPr>
          <a:xfrm>
            <a:off x="4249800" y="169704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Rectangle 36"/>
          <p:cNvSpPr/>
          <p:nvPr/>
        </p:nvSpPr>
        <p:spPr>
          <a:xfrm>
            <a:off x="4952880" y="169704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Rectangle 37"/>
          <p:cNvSpPr/>
          <p:nvPr/>
        </p:nvSpPr>
        <p:spPr>
          <a:xfrm>
            <a:off x="2828880" y="1697040"/>
            <a:ext cx="706320" cy="60660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Rectangle 38"/>
          <p:cNvSpPr/>
          <p:nvPr/>
        </p:nvSpPr>
        <p:spPr>
          <a:xfrm>
            <a:off x="3532320" y="169704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Rectangle 39"/>
          <p:cNvSpPr/>
          <p:nvPr/>
        </p:nvSpPr>
        <p:spPr>
          <a:xfrm>
            <a:off x="1422360" y="169704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Rectangle 40"/>
          <p:cNvSpPr/>
          <p:nvPr/>
        </p:nvSpPr>
        <p:spPr>
          <a:xfrm>
            <a:off x="2125800" y="169704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Rectangle 41"/>
          <p:cNvSpPr/>
          <p:nvPr/>
        </p:nvSpPr>
        <p:spPr>
          <a:xfrm>
            <a:off x="706320" y="1697040"/>
            <a:ext cx="706680" cy="606600"/>
          </a:xfrm>
          <a:prstGeom prst="rect">
            <a:avLst/>
          </a:prstGeom>
          <a:solidFill>
            <a:srgbClr val="fa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artition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3" name="Rectangle 42"/>
          <p:cNvSpPr/>
          <p:nvPr/>
        </p:nvSpPr>
        <p:spPr>
          <a:xfrm>
            <a:off x="70358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Rectangle 43"/>
          <p:cNvSpPr/>
          <p:nvPr/>
        </p:nvSpPr>
        <p:spPr>
          <a:xfrm>
            <a:off x="773892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Rectangle 44"/>
          <p:cNvSpPr/>
          <p:nvPr/>
        </p:nvSpPr>
        <p:spPr>
          <a:xfrm>
            <a:off x="562932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633240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Rectangle 46"/>
          <p:cNvSpPr/>
          <p:nvPr/>
        </p:nvSpPr>
        <p:spPr>
          <a:xfrm>
            <a:off x="421488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Rectangle 47"/>
          <p:cNvSpPr/>
          <p:nvPr/>
        </p:nvSpPr>
        <p:spPr>
          <a:xfrm>
            <a:off x="4917960" y="1774800"/>
            <a:ext cx="706680" cy="606600"/>
          </a:xfrm>
          <a:prstGeom prst="rect">
            <a:avLst/>
          </a:prstGeom>
          <a:solidFill>
            <a:srgbClr val="0066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279396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3497400" y="1774800"/>
            <a:ext cx="706320" cy="60660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1" name="Rectangle 50"/>
          <p:cNvSpPr/>
          <p:nvPr/>
        </p:nvSpPr>
        <p:spPr>
          <a:xfrm>
            <a:off x="13874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Rectangle 51"/>
          <p:cNvSpPr/>
          <p:nvPr/>
        </p:nvSpPr>
        <p:spPr>
          <a:xfrm>
            <a:off x="209088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3" name="Rectangle 52"/>
          <p:cNvSpPr/>
          <p:nvPr/>
        </p:nvSpPr>
        <p:spPr>
          <a:xfrm>
            <a:off x="671400" y="1774800"/>
            <a:ext cx="706680" cy="606600"/>
          </a:xfrm>
          <a:prstGeom prst="rect">
            <a:avLst/>
          </a:prstGeom>
          <a:solidFill>
            <a:srgbClr val="fa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artition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70358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773892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562932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633240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21488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4917960" y="1774800"/>
            <a:ext cx="706680" cy="606600"/>
          </a:xfrm>
          <a:prstGeom prst="rect">
            <a:avLst/>
          </a:prstGeom>
          <a:solidFill>
            <a:srgbClr val="0066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279396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497400" y="1774800"/>
            <a:ext cx="706320" cy="60660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13874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209088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671400" y="1774800"/>
            <a:ext cx="706680" cy="606600"/>
          </a:xfrm>
          <a:prstGeom prst="rect">
            <a:avLst/>
          </a:prstGeom>
          <a:solidFill>
            <a:srgbClr val="fa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artition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70358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773892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562932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633240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4214880" y="1774800"/>
            <a:ext cx="706320" cy="60660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491796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279396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3497400" y="1774800"/>
            <a:ext cx="706320" cy="606600"/>
          </a:xfrm>
          <a:prstGeom prst="rect">
            <a:avLst/>
          </a:prstGeom>
          <a:solidFill>
            <a:srgbClr val="0066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13874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209088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671400" y="1774800"/>
            <a:ext cx="706680" cy="606600"/>
          </a:xfrm>
          <a:prstGeom prst="rect">
            <a:avLst/>
          </a:prstGeom>
          <a:solidFill>
            <a:srgbClr val="fa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artition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70358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773892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562932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633240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421488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491796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279396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3497400" y="1774800"/>
            <a:ext cx="706320" cy="606600"/>
          </a:xfrm>
          <a:prstGeom prst="rect">
            <a:avLst/>
          </a:prstGeom>
          <a:solidFill>
            <a:srgbClr val="0066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13874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209088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Rectangle 13"/>
          <p:cNvSpPr/>
          <p:nvPr/>
        </p:nvSpPr>
        <p:spPr>
          <a:xfrm>
            <a:off x="671400" y="1774800"/>
            <a:ext cx="706680" cy="606600"/>
          </a:xfrm>
          <a:prstGeom prst="rect">
            <a:avLst/>
          </a:prstGeom>
          <a:solidFill>
            <a:srgbClr val="fa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artition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70358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773892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562932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633240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421488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491796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279396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497400" y="1774800"/>
            <a:ext cx="706320" cy="6066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13874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209088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671400" y="1774800"/>
            <a:ext cx="706680" cy="606600"/>
          </a:xfrm>
          <a:prstGeom prst="rect">
            <a:avLst/>
          </a:prstGeom>
          <a:solidFill>
            <a:srgbClr val="0066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artition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70358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773892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562932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633240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421488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491796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79396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497400" y="1774800"/>
            <a:ext cx="706320" cy="6066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138744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090880" y="1774800"/>
            <a:ext cx="70632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671400" y="1774800"/>
            <a:ext cx="706680" cy="606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9" name="Line 15"/>
          <p:cNvSpPr/>
          <p:nvPr/>
        </p:nvSpPr>
        <p:spPr>
          <a:xfrm>
            <a:off x="3867120" y="2583000"/>
            <a:ext cx="0" cy="635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2423880" y="3408120"/>
            <a:ext cx="274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votIndex = 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7720" y="258480"/>
            <a:ext cx="7966080" cy="22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Intuitive Introduc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009800" y="2222640"/>
            <a:ext cx="691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Main</a:t>
            </a:r>
            <a:r>
              <a:rPr b="0" lang="ja-JP" sz="2400" spc="-1" strike="noStrike" u="sng">
                <a:solidFill>
                  <a:srgbClr val="3333cc"/>
                </a:solidFill>
                <a:uFillTx/>
                <a:latin typeface="Arial"/>
              </a:rPr>
              <a:t>’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s slides from Chapter 1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360" y="245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Quicksort Implementa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1600" y="1386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ivot = arr[pivot_loc]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rr[pivot_loc], arr[0]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 =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 = n - 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l &lt; r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INVARIANT: all left of l &lt;= pivot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and all right of r &gt; pivo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l &lt; r &amp;&amp; arr[l] &lt;= pivot) l+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r &gt; l &amp;&amp; arr[r] &gt; pivot) r--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l &lt; r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rr[r], arr[l]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++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--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arr[l] &lt;= pivot) swap(arr[0], arr[l]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swap(arr[0], arr[l - 1]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Rough Analysi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we divide the list in about half each time, we partition O(log n) ti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ing the pivot index requires O(n) 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, we should expect the algorithm to take O(n log n) work if we find a good piv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Worst Case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do we get a bad spli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each value is larger than the piv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happens if the array is already sorted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is case runs in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Ideas for Choosing Pivo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ndomly choose an ind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e the median of the first 3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e the median of 3 random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an of random 2n+1 elements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Heapsor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st-case and average case O(n log 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heap data structure, pulling off max and re-heapify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examples on the board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Radix Sort Ques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does the following list like after the first iteration of radix sor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outer loop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a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e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f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mb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Radix Sort Ques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does the following list like after the first iteration of radix sor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outer loop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             emb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aks             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ery              ref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ther      </a:t>
            </a:r>
            <a:r>
              <a:rPr b="1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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fer              lea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mbed              eve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ay              arr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Mergesort Ques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we are using Mergesort, what will the following array look like right before th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a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rg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5 57 53 26 50 15 22 21 25 14 11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Mergesort Ques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we are using Mergesort, what will the following array look like right before th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a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rg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5 57 53 26 50 15 22 21 25 14 11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 26 35 50 53 57 2 11 15 21 22 2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Quicksort Ques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we are using Quicksort, what will the result be if we pivot on 35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5 57 53 26 50 15 22 21 25 14 11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Insertion Sor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0280" y="1405080"/>
            <a:ext cx="8001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insertionSort(int A[]) {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i=1; i&lt;A.length; i++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j=i; j&gt;0 &amp;&amp; A[j]&lt;A[j-1]; j--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ap(A[j],A[j-1]);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2120" y="3251160"/>
            <a:ext cx="7953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st case runs in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, where n = A.length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st case, A is sorted already, runs in O(n)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if you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 in a hurry to code it , and speed is   not an issue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Quicksort Ques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we are using Quicksort, what will the result be if we pivot on 35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5 57 53 26 50 15 22 21 25 14 11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5 2 11 26 14 15 22 21 35 50 53 5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Heapsort Ques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pify the following list, placing the maximum on t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5 57 53 26 50 15 22 21 25 14 11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Heapsort Ques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pify the following list, placing the maximum on t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5 57 53 26 50 15 22 21 25 14 11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7 50 53 26 35 15 22 21 25 14 11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Heapsort Ques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ginning with the following array, what is the result of running the heapsort procedure (take max put it on the end of the heap, re-heapify) after four iteration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7 50 53 26 35 15 22 21 25 14 11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Heapsort Ques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ginning with the following array, what is the result of running the heapsort procedure (take max put it on the end of the heap, re-heapify) after four iteration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7 50 53 26 35 15 22 21 25 14 11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6 25 22 21 14 15 2 11 35 50 53 5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What is the Average Disorder?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04920" y="1471680"/>
            <a:ext cx="84582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The average disorder for a sequence of n items is n(n-1)/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ssume all permutations of array A equally likely. If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reverse of A, then disorder(A) + disorder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n(n-1)/2 because A[i]&lt;A[j] iff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i]&gt;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j]. Thus the average disorder over all permutations is n(n-1)/4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华文细黑"/>
              </a:rPr>
              <a:t>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The average running time of </a:t>
            </a:r>
            <a:r>
              <a:rPr b="0" i="1" lang="en-US" sz="2400" spc="-1" strike="noStrike">
                <a:solidFill>
                  <a:srgbClr val="fa0000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orting program that swaps only adjacent elements is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It will have to do n(n-1)/4 swaps and may waste time in other ways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华文细黑"/>
              </a:rPr>
              <a:t>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835200"/>
            <a:ext cx="884700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To better O(n</a:t>
            </a:r>
            <a:r>
              <a:rPr b="0" lang="en-US" sz="4000" spc="-1" strike="noStrike" baseline="30000">
                <a:solidFill>
                  <a:srgbClr val="3333cc"/>
                </a:solidFill>
                <a:latin typeface="Verdana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) we must compare non-adjacent element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62120" y="2854440"/>
            <a:ext cx="8381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ell Sort: Swap elements n/2, n/4, … apart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p Sort: Swap A[i] with A[i/2]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ickSort: Swap around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How many leaves must there for a sorting tree for n items?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67" name="Group 10"/>
          <p:cNvGrpSpPr/>
          <p:nvPr/>
        </p:nvGrpSpPr>
        <p:grpSpPr>
          <a:xfrm>
            <a:off x="2235240" y="1792440"/>
            <a:ext cx="4800600" cy="3200400"/>
            <a:chOff x="2235240" y="1792440"/>
            <a:chExt cx="4800600" cy="3200400"/>
          </a:xfrm>
        </p:grpSpPr>
        <p:sp>
          <p:nvSpPr>
            <p:cNvPr id="68" name="Line 3"/>
            <p:cNvSpPr/>
            <p:nvPr/>
          </p:nvSpPr>
          <p:spPr>
            <a:xfrm flipH="1">
              <a:off x="3225600" y="1945080"/>
              <a:ext cx="106704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" name="Line 4"/>
            <p:cNvSpPr/>
            <p:nvPr/>
          </p:nvSpPr>
          <p:spPr>
            <a:xfrm>
              <a:off x="4292640" y="1945080"/>
              <a:ext cx="144756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" name="AutoShape 5"/>
            <p:cNvSpPr/>
            <p:nvPr/>
          </p:nvSpPr>
          <p:spPr>
            <a:xfrm>
              <a:off x="2311200" y="2935440"/>
              <a:ext cx="1752840" cy="182880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" name="AutoShape 6"/>
            <p:cNvSpPr/>
            <p:nvPr/>
          </p:nvSpPr>
          <p:spPr>
            <a:xfrm>
              <a:off x="4902120" y="2859480"/>
              <a:ext cx="1752480" cy="182880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" name="Line 7"/>
            <p:cNvSpPr/>
            <p:nvPr/>
          </p:nvSpPr>
          <p:spPr>
            <a:xfrm>
              <a:off x="2235240" y="499284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3454200" y="1792440"/>
              <a:ext cx="2286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[0]&lt;a[1]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4" name="Text Box 9"/>
          <p:cNvSpPr/>
          <p:nvPr/>
        </p:nvSpPr>
        <p:spPr>
          <a:xfrm>
            <a:off x="609480" y="53928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!, the number of different permutations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3: Sorting I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6714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 a tree with n! leaves has depth at least lg n!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ice that depth = the maximum number of tests one might have to perform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g n! = lg n(n-1)(n-2)…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= lg n + lg n-1 + lg n-2 + … + lg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g n + … + lg(n/2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n/2) lg(n/2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n/2) lg n - n/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n lg n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ort algorithm tak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n lg n) comparisons.</a:t>
            </a:r>
            <a:endParaRPr b="0" lang="en-US" sz="20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4T14:10:14Z</dcterms:created>
  <dc:creator>James H. Morris</dc:creator>
  <dc:description/>
  <dc:language>en-US</dc:language>
  <cp:lastModifiedBy>Michael J Mccarthy</cp:lastModifiedBy>
  <cp:lastPrinted>1999-02-08T20:32:46Z</cp:lastPrinted>
  <dcterms:modified xsi:type="dcterms:W3CDTF">2023-04-06T19:09:04Z</dcterms:modified>
  <cp:revision>132</cp:revision>
  <dc:subject/>
  <dc:title>Trees</dc:title>
</cp:coreProperties>
</file>