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96C5-B789-4E90-AA33-08C5DF04A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6FCB-2D5E-4683-9AFD-EFD15D47E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5C71-CE48-4537-8069-059F64857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C949-2411-4A02-8B15-1C6A80457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AFDA-4680-4F47-9CB9-FC7052A98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80FD-00BF-44CF-81F0-DA4D04665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6116-1155-45E1-883C-8E6A24310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5B87-8858-411A-B9AE-2DF244D45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43CB-95D2-40B9-BF30-FF4C37532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24D0-1CA3-42E6-BAA3-2ADC283A3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7F2D-90E5-4AC7-B11A-1C445C3F0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01B9-BE95-4906-B73E-A1A77685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DFA-4821-41EF-8742-50ECEE68E93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468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5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792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cture 13: Sorting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s there a way to sort without using binary comparison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1981080"/>
            <a:ext cx="7848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omparisons, K-way comparison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log n) result will still be true, 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Useful speed-up heuristic: use your data as an index of an array.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nsider sorting letter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8040" y="203688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 counts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=0; j&lt;clist.length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[clist[j]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count[i]-- &gt; 0) clist[j++]=i+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orting list of letter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298520" y="1289160"/>
            <a:ext cx="65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 counts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clist.length; j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[clist[j]-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count[i]-- &gt; 0) clist[j++]=i+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25560" y="56372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 is O(26+clist.size()), i.e. </a:t>
            </a:r>
            <a:r>
              <a:rPr b="1" i="1" lang="en-US" sz="2400" spc="-1" strike="noStrike">
                <a:solidFill>
                  <a:srgbClr val="fa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96920" y="3927600"/>
            <a:ext cx="656604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list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cabbda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= {3,4,1,1,0,1,0, …, 0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ew  clist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bbbbcd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Why does this beat n log n?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714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ra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clist[j]]+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like a 26-way test; the outcome depends directly on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at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cause it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work if the data range grows from 26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 can still be useful — can break up range into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cke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use mergesort on each bu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42800" y="9907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y to exploit the data-driven idea for large data spac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Sort the numbers by their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lowest</a:t>
            </a: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. Then sort them by the next lowest digit, being careful to break ties properly. Continue to highest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500200" y="3241800"/>
          <a:ext cx="3962520" cy="31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241800"/>
                    <a:ext cx="396252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6"/>
          <p:cNvSpPr/>
          <p:nvPr/>
        </p:nvSpPr>
        <p:spPr>
          <a:xfrm>
            <a:off x="3003480" y="328608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11440" y="326880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079880" y="334008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637160" y="32958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ort must be 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lative order of equal keys is pre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way, the work done for earlier bits is no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73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80920" y="1511280"/>
            <a:ext cx="84582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l Algorithm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ort items A[i] with value 0…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(= INT_MAX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table of 256 buckets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For every A[i] put it in bucket A[i] mod 256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ll the items from the buckets 0,…, 255 in a FIF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ner, re-packing them into A.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O(4*(256+A.length)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Radix Sort using Counts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00160" y="1654200"/>
            <a:ext cx="85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RadixSort(int a[], int b[], int N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, j, pass, count[M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pass=0; pass &lt; (w/m); pass++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j=0; j &lt; M; j++) count[j]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; i &lt;= N; i++)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a[i].bits(pass*m, m)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j=1; j &lt; M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j] = count[j-1] + count[j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N; i &gt;= 1; i--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[count[a[i].bits(pass*m,m)]--] =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[i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; i &lt;= N; i++) a[i] = b[i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16120" y="1039680"/>
            <a:ext cx="72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Queues can be avoided by using count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using Queue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227240" y="1027080"/>
            <a:ext cx="7916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int BucketCount = 256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RadixSort(vector&lt;int&gt; &amp;A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&lt;queue&lt;int&gt; &gt; Table(BucketCount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asses = ceil(log(INT_MAX)/log(BucketCount)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ower = 1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p=0; p&lt;passes;p++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 i&lt;A.size(); i++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tem = A[i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ucket = (item/power) % BucketCoun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ble[bucket].push(item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b=0; b&lt;BucketCount; b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!Table[b].empty()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++] = Table[b].front(); Table[b].pop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wer *= BucketCoun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52600" y="1298520"/>
            <a:ext cx="769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it takes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( Passes*(NBuckets+A.length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Passes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(INT_MAX)/log(NBucket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needs O(A.length) in extra spac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61680" y="2298240"/>
            <a:ext cx="6675480" cy="24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ef review from las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dix sorting and index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sorting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dea of Merge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 elements to be sorted into two groups of equal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each h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 the results using a simultaneous pass through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suedocode for Merge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42600"/>
            <a:ext cx="6912000" cy="45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ergesort(int data[], int first, int n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 &gt; 1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1 = n/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2 = n - n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sort(data, first, n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sort(data, first+n1, n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(data, first, n1, n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in A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24" name="Picture 4" descr="merge1a"/>
          <p:cNvPicPr/>
          <p:nvPr/>
        </p:nvPicPr>
        <p:blipFill>
          <a:blip r:embed="rId1"/>
          <a:stretch/>
        </p:blipFill>
        <p:spPr>
          <a:xfrm>
            <a:off x="1359000" y="1550880"/>
            <a:ext cx="646272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in A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27" name="Picture 4" descr="merge1b"/>
          <p:cNvPicPr/>
          <p:nvPr/>
        </p:nvPicPr>
        <p:blipFill>
          <a:blip r:embed="rId1"/>
          <a:stretch/>
        </p:blipFill>
        <p:spPr>
          <a:xfrm>
            <a:off x="1720800" y="1741320"/>
            <a:ext cx="5878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he Merge Oper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130" name="Group 55"/>
          <p:cNvGrpSpPr/>
          <p:nvPr/>
        </p:nvGrpSpPr>
        <p:grpSpPr>
          <a:xfrm>
            <a:off x="1370160" y="2403360"/>
            <a:ext cx="6700680" cy="612720"/>
            <a:chOff x="1370160" y="2403360"/>
            <a:chExt cx="6700680" cy="612720"/>
          </a:xfrm>
        </p:grpSpPr>
        <p:sp>
          <p:nvSpPr>
            <p:cNvPr id="131" name="Rectangle 4"/>
            <p:cNvSpPr/>
            <p:nvPr/>
          </p:nvSpPr>
          <p:spPr>
            <a:xfrm>
              <a:off x="137016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208584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278928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350352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518796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591660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662148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735012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39" name="Group 56"/>
          <p:cNvGrpSpPr/>
          <p:nvPr/>
        </p:nvGrpSpPr>
        <p:grpSpPr>
          <a:xfrm>
            <a:off x="1494000" y="4468680"/>
            <a:ext cx="5805360" cy="590760"/>
            <a:chOff x="1494000" y="4468680"/>
            <a:chExt cx="5805360" cy="590760"/>
          </a:xfrm>
        </p:grpSpPr>
        <p:sp>
          <p:nvSpPr>
            <p:cNvPr id="140" name="Rectangle 19"/>
            <p:cNvSpPr/>
            <p:nvPr/>
          </p:nvSpPr>
          <p:spPr>
            <a:xfrm>
              <a:off x="14940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22068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>
              <a:off x="294336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702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440388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511668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58500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57864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8" name="Rectangle 39"/>
          <p:cNvSpPr/>
          <p:nvPr/>
        </p:nvSpPr>
        <p:spPr>
          <a:xfrm>
            <a:off x="2836800" y="3543480"/>
            <a:ext cx="417600" cy="3762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Line 46"/>
          <p:cNvSpPr/>
          <p:nvPr/>
        </p:nvSpPr>
        <p:spPr>
          <a:xfrm flipV="1">
            <a:off x="1839960" y="51292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Line 57"/>
          <p:cNvSpPr/>
          <p:nvPr/>
        </p:nvSpPr>
        <p:spPr>
          <a:xfrm flipV="1">
            <a:off x="5514840" y="310320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Line 58"/>
          <p:cNvSpPr/>
          <p:nvPr/>
        </p:nvSpPr>
        <p:spPr>
          <a:xfrm flipV="1">
            <a:off x="1741320" y="310320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Performanc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orst-case, average-case, and best-case running time for mergesort are all O(n log 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ide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dividing in half we do O(log n) mer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erge requires linea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eneral Recursive Strategy to Sort List L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L has zero or one element,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fi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 L into two smaller lists L1, L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ly sort each of the smaller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L1 and L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far have considered merge combination meth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 conside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two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7640" y="1542960"/>
            <a:ext cx="306684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devised by the computer scient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A.R. Ho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most effective algorithms in practice, though quadratic in the worst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hoare"/>
          <p:cNvPicPr/>
          <p:nvPr/>
        </p:nvPicPr>
        <p:blipFill>
          <a:blip r:embed="rId1"/>
          <a:stretch/>
        </p:blipFill>
        <p:spPr>
          <a:xfrm>
            <a:off x="4773600" y="1771560"/>
            <a:ext cx="26859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two ph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tion phase, to break the array into two pie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rt phase, to recursively sort ha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of the work goes into the partiti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partitioning, the values in the left half are less than the values in the right h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he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invaria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13"/>
          <p:cNvGrpSpPr/>
          <p:nvPr/>
        </p:nvGrpSpPr>
        <p:grpSpPr>
          <a:xfrm>
            <a:off x="2033640" y="2944800"/>
            <a:ext cx="5338800" cy="2028960"/>
            <a:chOff x="2033640" y="2944800"/>
            <a:chExt cx="5338800" cy="2028960"/>
          </a:xfrm>
        </p:grpSpPr>
        <p:sp>
          <p:nvSpPr>
            <p:cNvPr id="169" name="Rectangle 4"/>
            <p:cNvSpPr/>
            <p:nvPr/>
          </p:nvSpPr>
          <p:spPr>
            <a:xfrm>
              <a:off x="2033640" y="2973240"/>
              <a:ext cx="2265120" cy="66348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4298760" y="2959200"/>
              <a:ext cx="765360" cy="67752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vo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5064120" y="2944800"/>
              <a:ext cx="2308320" cy="69192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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4660920" y="376704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3851280" y="4606920"/>
              <a:ext cx="169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vot index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orting Demonstr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13516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www.toptal.com/developers/sorting-algorith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hoosing a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y question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choose the pivot item?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ffect performance drama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ly, we should choose to pivot around 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once thought that finding the median costs as much as sorting...But the median can be found in O(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terministic algorithm might simply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ement as the piv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on-deterministic algorithm might choose the pivot element randomly. The worst case does not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7068960" y="1765440"/>
            <a:ext cx="1409760" cy="606240"/>
            <a:chOff x="7068960" y="1765440"/>
            <a:chExt cx="1409760" cy="606240"/>
          </a:xfrm>
        </p:grpSpPr>
        <p:sp>
          <p:nvSpPr>
            <p:cNvPr id="180" name="Rectangle 15"/>
            <p:cNvSpPr/>
            <p:nvPr/>
          </p:nvSpPr>
          <p:spPr>
            <a:xfrm>
              <a:off x="706896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9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777240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5662440" y="1765440"/>
            <a:ext cx="1409760" cy="606240"/>
            <a:chOff x="5662440" y="1765440"/>
            <a:chExt cx="1409760" cy="606240"/>
          </a:xfrm>
        </p:grpSpPr>
        <p:sp>
          <p:nvSpPr>
            <p:cNvPr id="183" name="Rectangle 22"/>
            <p:cNvSpPr/>
            <p:nvPr/>
          </p:nvSpPr>
          <p:spPr>
            <a:xfrm>
              <a:off x="566244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36588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4248000" y="1765440"/>
            <a:ext cx="1409760" cy="606240"/>
            <a:chOff x="4248000" y="1765440"/>
            <a:chExt cx="1409760" cy="606240"/>
          </a:xfrm>
        </p:grpSpPr>
        <p:sp>
          <p:nvSpPr>
            <p:cNvPr id="186" name="Rectangle 25"/>
            <p:cNvSpPr/>
            <p:nvPr/>
          </p:nvSpPr>
          <p:spPr>
            <a:xfrm>
              <a:off x="424800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7" name="Rectangle 26"/>
            <p:cNvSpPr/>
            <p:nvPr/>
          </p:nvSpPr>
          <p:spPr>
            <a:xfrm>
              <a:off x="495144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8" name="Group 27"/>
          <p:cNvGrpSpPr/>
          <p:nvPr/>
        </p:nvGrpSpPr>
        <p:grpSpPr>
          <a:xfrm>
            <a:off x="2827440" y="1765440"/>
            <a:ext cx="1409760" cy="606240"/>
            <a:chOff x="2827440" y="1765440"/>
            <a:chExt cx="1409760" cy="606240"/>
          </a:xfrm>
        </p:grpSpPr>
        <p:sp>
          <p:nvSpPr>
            <p:cNvPr id="189" name="Rectangle 28"/>
            <p:cNvSpPr/>
            <p:nvPr/>
          </p:nvSpPr>
          <p:spPr>
            <a:xfrm>
              <a:off x="282744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8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353088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1420920" y="1765440"/>
            <a:ext cx="1409760" cy="606240"/>
            <a:chOff x="1420920" y="1765440"/>
            <a:chExt cx="1409760" cy="606240"/>
          </a:xfrm>
        </p:grpSpPr>
        <p:sp>
          <p:nvSpPr>
            <p:cNvPr id="192" name="Rectangle 31"/>
            <p:cNvSpPr/>
            <p:nvPr/>
          </p:nvSpPr>
          <p:spPr>
            <a:xfrm>
              <a:off x="142092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212436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704880" y="1765440"/>
            <a:ext cx="706320" cy="60624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703404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773748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5627520" y="1832040"/>
            <a:ext cx="706680" cy="60624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33096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421308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491652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2792520" y="1832040"/>
            <a:ext cx="706320" cy="606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349560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50"/>
          <p:cNvSpPr/>
          <p:nvPr/>
        </p:nvSpPr>
        <p:spPr>
          <a:xfrm>
            <a:off x="138600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208908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669960" y="1832040"/>
            <a:ext cx="706320" cy="60624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0" name="Rectangle 31"/>
          <p:cNvSpPr/>
          <p:nvPr/>
        </p:nvSpPr>
        <p:spPr>
          <a:xfrm>
            <a:off x="707076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777384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5664240" y="169704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636732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424980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495288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2828880" y="169704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353232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39"/>
          <p:cNvSpPr/>
          <p:nvPr/>
        </p:nvSpPr>
        <p:spPr>
          <a:xfrm>
            <a:off x="142236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40"/>
          <p:cNvSpPr/>
          <p:nvPr/>
        </p:nvSpPr>
        <p:spPr>
          <a:xfrm>
            <a:off x="212580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706320" y="169704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Rectangle 44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Rectangle 52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3867120" y="2583000"/>
            <a:ext cx="0" cy="63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2423880" y="3408120"/>
            <a:ext cx="27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Index = 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720" y="258480"/>
            <a:ext cx="7966080" cy="22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tuitive Introdu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09800" y="222264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ain</a:t>
            </a: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</a:rPr>
              <a:t>’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 slides from Chapter 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Implement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13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ivot = arr[pivot_loc]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rr[pivot_loc], arr[0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 = n -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l &lt; 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VARIANT: all left of l &lt;= pivo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nd all right of r &gt; piv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l &lt; r &amp;&amp; arr[l] &lt;= pivot) l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r &gt; l &amp;&amp; arr[r] &gt; pivot) r--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l &lt; 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rr[r], arr[l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-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rr[l] &lt;= pivot) swap(arr[0], arr[l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swap(arr[0], arr[l - 1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ough Analysi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divide the list in about half each time, we partition O(log n)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the pivot index requires O(n)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we should expect the algorithm to take O(n log n) work if we find a good piv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orst Cas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do we get a bad spl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each value is larger than the piv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happens if the array is already sort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ase runs i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deas for Choosing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ly choose an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he median of the first 3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he median of 3 random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 of random 2n+1 element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st-case and average case O(n log 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heap data structure, pulling off max and re-heapify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examples on the board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es the following list like after the first iteration of radix s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uter loo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es the following list like after the first iteration of radix s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uter loo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             em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ks             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ry              re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     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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er              l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bed              e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              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Mergesort, what will the following array look like right before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Mergesort, what will the following array look like right before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 26 35 50 53 57 2 11 15 21 22 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Quicksort, what will the result be if we pivot on 35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0280" y="140508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3251160"/>
            <a:ext cx="795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st case runs i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n = A.length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case, A is sorted already, runs in O(n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f 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in a hurry to code it , and speed is   not an issu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Quicksort, what will the result be if we pivot on 35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 2 11 26 14 15 22 21 35 50 53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ify the following list, placing the maximum on t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ify the following list, placing the maximum on t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with the following array, what is the result of running the heapsort procedure (take max put it on the end of the heap, re-heapify) after four iter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with the following array, what is the result of running the heapsort procedure (take max put it on the end of the heap, re-heapify) after four iter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 25 22 21 14 15 2 11 35 50 53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hat is the Average Disorder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4920" y="14716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disorder for a sequence of n items is n(n-1)/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ssume all permutations of array A equally likely. I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everse of A, then disorder(A) + disorder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n(n-1)/2 because A[i]&lt;A[j] if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i]&gt;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j]. Thus the average disorder over all permutations is n(n-1)/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running time of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ing program that swaps only adjacent elements i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t will have to do n(n-1)/4 swaps and may waste time in other ways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835200"/>
            <a:ext cx="88470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o better O(n</a:t>
            </a:r>
            <a:r>
              <a:rPr b="0" lang="en-US" sz="4000" spc="-1" strike="noStrike" baseline="30000">
                <a:solidFill>
                  <a:srgbClr val="3333cc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) we must compare non-adjacent elemen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285444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ll Sort: Swap elements n/2, n/4, … apar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 Sort: Swap A[i] with A[i/2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: Swap aroun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ow many leaves must there for a sorting tree for n items?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235240" y="1792440"/>
            <a:ext cx="4800600" cy="3200400"/>
            <a:chOff x="2235240" y="1792440"/>
            <a:chExt cx="4800600" cy="3200400"/>
          </a:xfrm>
        </p:grpSpPr>
        <p:sp>
          <p:nvSpPr>
            <p:cNvPr id="68" name="Line 3"/>
            <p:cNvSpPr/>
            <p:nvPr/>
          </p:nvSpPr>
          <p:spPr>
            <a:xfrm flipH="1">
              <a:off x="3225600" y="1945080"/>
              <a:ext cx="10670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4292640" y="1945080"/>
              <a:ext cx="14475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2311200" y="2935440"/>
              <a:ext cx="175284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>
              <a:off x="4902120" y="28594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2235240" y="499284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454200" y="179244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" name="Text Box 9"/>
          <p:cNvSpPr/>
          <p:nvPr/>
        </p:nvSpPr>
        <p:spPr>
          <a:xfrm>
            <a:off x="609480" y="5392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!, the number of different permutation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71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a tree with n! leaves has depth at least lg n!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 that depth = the maximum number of tests one might have to perfor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g n! = lg n(n-1)(n-2)…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= lg n + lg n-1 + lg n-2 + … + lg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g n + … + lg(n/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n/2) lg(n/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n/2) lg n - n/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 lg 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rt algorithm tak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 lg n) comparisons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4:10:14Z</dcterms:created>
  <dc:creator>James H. Morris</dc:creator>
  <dc:description/>
  <dc:language>en-US</dc:language>
  <cp:lastModifiedBy>Michael J Mccarthy</cp:lastModifiedBy>
  <cp:lastPrinted>1999-02-08T20:32:46Z</cp:lastPrinted>
  <dcterms:modified xsi:type="dcterms:W3CDTF">2023-04-06T19:09:04Z</dcterms:modified>
  <cp:revision>132</cp:revision>
  <dc:subject/>
  <dc:title>Trees</dc:title>
</cp:coreProperties>
</file>